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4D69-1904-435A-B03F-48727B88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641-9BC2-4CDE-AA81-54CA50D2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82F-734B-4480-8999-1544CF3B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A7D-2A04-4F89-A9CA-E9C1E772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215-C5BA-4CA3-9525-5B656DAC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B1AF-4AE2-4D08-96E0-DA53E448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B6A-27CD-4FCF-8E4F-B1112AC0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1EE-5162-4BF8-BF88-8F0935F4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DDAC-096C-43AA-82E8-11DA1183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FF0C-32CA-4DD8-A1EA-220B5553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8A5-08E5-43F0-BF10-3680308D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D11E-85B4-4C02-AB1D-0DE5A664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530C-AD87-40B1-8479-F32FEA0C2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857160" y="71424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000000"/>
                </a:solidFill>
                <a:latin typeface="Calibri"/>
              </a:rPr>
              <a:t>L’imparfait/imperfect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1928880" y="2000160"/>
            <a:ext cx="55292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85840" y="428760"/>
            <a:ext cx="8429400" cy="70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hat do these sentence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La fille était petite  et elle avait les cheveux longs et bl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J’allais à la plage tous les jour quand j’étais jeu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J’écoutais de la musique quand mon frère est arriv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Il portait un t-shirt bleu et un pantalon no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Quand j’avais 6 ans je me couchais à 7 he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Je marchais dans la forêt quand j’ai vu un serp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14200" y="500040"/>
            <a:ext cx="8715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The imperfect is another past tense which is used in three different circum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criptions in the pa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scriptions setting the scen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’</a:t>
            </a:r>
            <a:r>
              <a:rPr b="0" i="1" lang="fr-FR" sz="2000" spc="-1" strike="noStrike">
                <a:solidFill>
                  <a:srgbClr val="ff0000"/>
                </a:solidFill>
                <a:latin typeface="Calibri"/>
              </a:rPr>
              <a:t>était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en automne: it was in autum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l </a:t>
            </a:r>
            <a:r>
              <a:rPr b="0" i="1" lang="fr-FR" sz="2000" spc="-1" strike="noStrike">
                <a:solidFill>
                  <a:srgbClr val="ff0000"/>
                </a:solidFill>
                <a:latin typeface="Calibri"/>
              </a:rPr>
              <a:t>faisait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nuit: It was d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s étoiles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brillai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stars were sh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scriptions of peo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aniel </a:t>
            </a:r>
            <a:r>
              <a:rPr b="0" i="1" lang="fr-FR" sz="2000" spc="-1" strike="noStrike">
                <a:solidFill>
                  <a:srgbClr val="ff0000"/>
                </a:solidFill>
                <a:latin typeface="Calibri"/>
              </a:rPr>
              <a:t>était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grand, il </a:t>
            </a:r>
            <a:r>
              <a:rPr b="0" i="1" lang="fr-FR" sz="2000" spc="-1" strike="noStrike">
                <a:solidFill>
                  <a:srgbClr val="ff0000"/>
                </a:solidFill>
                <a:latin typeface="Calibri"/>
              </a:rPr>
              <a:t>avait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de longs cheveux noirs: Daniel was tall, he had long black h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le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étai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ne femme méchante: She was a bad la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show descriptions of feelings, attitudes and mental and emotional states in the past: Juliette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était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louse de Daniel parce qu’il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aimait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phie: Juliette was jealous of Daniel because he liked Soph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14200" y="357120"/>
            <a:ext cx="84297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eated Actions in the past: (the equivalent of “used to” in English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uand j’</a:t>
            </a: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étai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jeune, je </a:t>
            </a: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faisai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u sport tous les jo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I was young I used to play sport every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uand il </a:t>
            </a: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étai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petit, il </a:t>
            </a: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allai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chez ses grands-parents tous les week-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he was little he used to go to his grandparents place every week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us </a:t>
            </a: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allion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à la plage chaque ét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We used to go to the beach every sum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14200" y="571680"/>
            <a:ext cx="8715600" cy="68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alibri"/>
              </a:rPr>
              <a:t>3) To express incomplete actions in the past (usually when they have been interrupted by an action in the passé compos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imothy </a:t>
            </a: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regardai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la télévision quand le téléphone </a:t>
            </a:r>
            <a:r>
              <a:rPr b="0" i="1" lang="fr-FR" sz="2800" spc="-1" strike="noStrike">
                <a:solidFill>
                  <a:srgbClr val="ffff00"/>
                </a:solidFill>
                <a:latin typeface="Calibri"/>
              </a:rPr>
              <a:t>a sonné</a:t>
            </a:r>
            <a:r>
              <a:rPr b="0" lang="fr-FR" sz="2800" spc="-1" strike="noStrike">
                <a:solidFill>
                  <a:srgbClr val="ffff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othy was watching tv (imperfect – ongoing action) when the phone rang (pc – completed action which interrup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faisai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mes devoirs quand marie </a:t>
            </a:r>
            <a:r>
              <a:rPr b="0" i="1" lang="fr-FR" sz="2800" spc="-1" strike="noStrike">
                <a:solidFill>
                  <a:srgbClr val="ffff00"/>
                </a:solidFill>
                <a:latin typeface="Calibri"/>
              </a:rPr>
              <a:t>est arrivé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was doing my homework (imperfect ongoing action) when Marie arrived (pc – completed action which interrupts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85840" y="571680"/>
            <a:ext cx="8572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alibri"/>
              </a:rPr>
              <a:t>How do we form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he nous part of the present t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Take of the –ons ending (this makes the imperfect st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Add the following endings to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Je  - 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u –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 – 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lle – 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us –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Vous – i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s – 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lles – a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500040" y="428760"/>
            <a:ext cx="8072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air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1) Present tense nous form: F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2) Take off –on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→Imperfect stem = fai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3) Add the en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Je fais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u fais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fais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lle fais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us fais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ous fais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s fais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lles fais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85840" y="285840"/>
            <a:ext cx="85010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garder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1) Present tense nous form: regard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2) Take off –on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→Imperfect stem = regard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3) Add the en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Je regard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u regard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regard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lle regard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us regard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ous regard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s regard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lles regard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357120" y="428760"/>
            <a:ext cx="878688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Try putting these verbs in the imper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Aller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Manger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Fin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85840" y="142920"/>
            <a:ext cx="8572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e only irregular verb in the imperfect is E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It still keeps the same endings as all the other verbs except it has a different 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he stem is ét 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o the forms of être ar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J’ét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Tu ét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Il ét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lle ét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Nous ét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Vous ét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i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Ils ét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a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lles ét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a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11:21:28Z</dcterms:created>
  <dc:creator>kr</dc:creator>
  <dc:description/>
  <dc:language>en-US</dc:language>
  <cp:lastModifiedBy>scollett</cp:lastModifiedBy>
  <dcterms:modified xsi:type="dcterms:W3CDTF">2011-07-31T21:34:57Z</dcterms:modified>
  <cp:revision>7</cp:revision>
  <dc:subject/>
  <dc:title>Slide 1</dc:title>
</cp:coreProperties>
</file>